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A58-7776-45EB-B4AF-1AFB6568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CEF-67E7-459B-AD7F-8020121E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BCC-D1B5-4455-86BC-229FCEA6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4DF-AA1A-4735-A256-1C49EA27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A02-8043-411F-933E-997A815F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83F-4129-4B41-AF76-3092365B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829-E8D6-4E89-A95A-2C217CCC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1A1-35FA-429E-8E66-D763A5F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27F-6680-45D7-956E-1F30E924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AC2-07CB-4D2D-ADA0-CB35B908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A2F-D7F3-45E0-A001-354F580C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415-2A4F-4581-BF11-35C48CE8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9827-DC36-4BBA-BE04-6FB166277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__             Clase 7 IM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primero de febr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es trabajan a bordo del av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89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58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8000" y="52578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p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3480" y="52578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= to tak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02400" y="51814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erri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6520" y="51814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= to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791320"/>
            <a:ext cx="8001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816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Vo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371600"/>
            <a:ext cx="123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120" y="990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960" y="56386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lega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960" y="57150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= to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920" y="1981080"/>
            <a:ext cx="339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Embarcar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mbar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990720"/>
            <a:ext cx="1844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120600"/>
            <a:ext cx="6096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Vocabulario Nu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219320" y="-380880"/>
            <a:ext cx="11887200" cy="7619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8680" y="1752480"/>
            <a:ext cx="138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960" y="2590920"/>
            <a:ext cx="842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560" y="4648320"/>
            <a:ext cx="133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-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9120" y="1752480"/>
            <a:ext cx="68580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0240" y="2209680"/>
            <a:ext cx="1552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te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952880"/>
            <a:ext cx="2209680" cy="838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4648320"/>
            <a:ext cx="184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ight C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57600" y="5028840"/>
            <a:ext cx="68580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6629400"/>
            <a:ext cx="89154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85800"/>
            <a:ext cx="3749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5029200" cy="8380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4560" y="5335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sisti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ssist / ten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219320" y="-380880"/>
            <a:ext cx="11887200" cy="7619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0" y="3429000"/>
            <a:ext cx="2362320" cy="19051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00" y="3886200"/>
            <a:ext cx="18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sse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5867280"/>
            <a:ext cx="2362320" cy="60984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781680" y="5867280"/>
            <a:ext cx="533520" cy="1526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35400" y="5410080"/>
            <a:ext cx="224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o disembar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o ge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676160" y="4267080"/>
            <a:ext cx="609480" cy="152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48640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04760" y="5715000"/>
            <a:ext cx="68580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2520" y="5562720"/>
            <a:ext cx="842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0400" y="6019920"/>
            <a:ext cx="2221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es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615000"/>
            <a:ext cx="8991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3749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219320" y="-380880"/>
            <a:ext cx="11887200" cy="7619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7280" y="2362320"/>
            <a:ext cx="1805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ol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sapo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5562720"/>
            <a:ext cx="1676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6019920"/>
            <a:ext cx="2133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6019920"/>
            <a:ext cx="228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4600" y="3276720"/>
            <a:ext cx="2602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por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2160" y="3733920"/>
            <a:ext cx="190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migr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191120"/>
            <a:ext cx="192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6477120"/>
            <a:ext cx="1676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35000" y="2666880"/>
            <a:ext cx="165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tran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2640" y="3200400"/>
            <a:ext cx="178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ign(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629400"/>
            <a:ext cx="9067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85800"/>
            <a:ext cx="3749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1066680" y="-380880"/>
            <a:ext cx="11734560" cy="7619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0" y="20574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clamar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840" y="251460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coger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ick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172200"/>
            <a:ext cx="8991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85800"/>
            <a:ext cx="3749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8160" y="1371600"/>
            <a:ext cx="307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 aduan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518148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speccionar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spect /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3400" y="20574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ontrolar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6172200"/>
            <a:ext cx="93726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52280" y="685800"/>
            <a:ext cx="374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92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lp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7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3:01:23Z</dcterms:created>
  <dc:creator>Helen Zumaeta</dc:creator>
  <dc:description/>
  <dc:language>en-US</dc:language>
  <cp:lastModifiedBy>Helen Zumaeta</cp:lastModifiedBy>
  <dcterms:modified xsi:type="dcterms:W3CDTF">2013-01-31T23:44:55Z</dcterms:modified>
  <cp:revision>6</cp:revision>
  <dc:subject/>
  <dc:title>Me llamo _________ Clase 7 IM La fecha es el 26 de octubre del 2011</dc:title>
</cp:coreProperties>
</file>